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9794-0176-4D18-A4D9-6925F4A1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F86-6989-49F9-8831-D4C88725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A9D-8BCC-4CE4-967E-A291F43E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AFF-FD3F-42F3-BDAD-A7B71EE5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CFA-8418-458C-A5A9-DD395F2D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703-8BED-4662-B2F2-B9A0FFC2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A89-5A95-4184-98DF-D4B3C55B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7B45-DEB2-47BA-AC3B-13815253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6CDE-8080-40DD-84F0-EFC5C435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FA2D-8019-47FA-BCFD-A8D9873D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2FF-97C5-432A-BE5A-9E445A04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60A7-6C56-42CE-AC25-E1448C19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9ABC-AC53-44F5-9DAB-7F7FB7D211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34440" y="7621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Arial"/>
                <a:ea typeface="华文新魏"/>
              </a:rPr>
              <a:t>走过四季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2104920"/>
            <a:ext cx="9372600" cy="2646000"/>
          </a:xfrm>
          <a:prstGeom prst="rect">
            <a:avLst/>
          </a:prstGeom>
          <a:solidFill>
            <a:srgbClr val="0000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4880" bIns="164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二、苦难是人生最好的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楷体"/>
              </a:rPr>
              <a:t>苦难消磨人的意志、煎熬人的心灵，苦难会让人感到生活在水深火热之中。然而，苦难是人生最好的大学，最好的老师，如果你能战胜它，你就会获得一笔极其宝贵的精神财富。“自古雄才多磨难，从来纨绔少伟男。”懦弱者面对苦难无能为力，在苦难中逐步走向失败、走向沉沦、走向灭亡；有志者面对困难时不屈不挠、愈挫愈勇，他们有坚忍不拔、顽强拼搏的精神和钢铁般的意志，在苦难的海洋中扬帆启航、乘风破浪，在一次次搏击中锤炼自己、创造奇迹、获得成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楷体"/>
              </a:rPr>
              <a:t>在竞争激烈的社会里，我们应当敢于迎接苦难的挑战，以苦为乐、做一个战胜苦难、自立、自强的勇敢者。只有在不断磨砺中才能养成良好的品质、不屈的斗志、坚强的性格、创新的精神，这一切会影响你的一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1809000"/>
            <a:ext cx="9144000" cy="2646360"/>
          </a:xfrm>
          <a:prstGeom prst="rect">
            <a:avLst/>
          </a:prstGeom>
          <a:solidFill>
            <a:srgbClr val="0000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4880" bIns="1648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三、痛苦和失败是成功的台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华文楷体"/>
                <a:ea typeface="华文楷体"/>
              </a:rPr>
              <a:t>人生是一场没有配角的戏，在每个人的世界里都有一部难念的经、难圆的梦、难以忍受的痛苦与磨难、难以述说的失落与失败。正象一位作家曾说过的那样：人的一生常有八九不如意，而如意的事也只有一二。请保持良好的心态，要常思一二，不思八九。要知道最严酷的寒冬总在春之前，最黑暗的时刻是在黎明之前，当你感到痛苦、失败和无奈时，正是你既将成功之日。有人说行百里半九十，其实，有人生的道路上，行百里何止是半九十，有时就是半九十九，当与成功只有一步之遥，可能就是人生最黑暗、最痛苦、最艰难，最让人难以忍受之时。有时世界就是这样让人感到无情、无奈、无助、无法形容，就在这一步之遥、一念之差、一搏之时定位了成与败、荣与辱、存与亡。虽然都道是人生无常、世事难料，但成功永远属于那些不懈努力和时刻准备着的人，只要把痛苦和失败看成是走向成功的台阶，希望就永远属于你，美梦最终会成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175480"/>
            <a:ext cx="9210600" cy="2410200"/>
          </a:xfrm>
          <a:prstGeom prst="rect">
            <a:avLst/>
          </a:prstGeom>
          <a:solidFill>
            <a:srgbClr val="0000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记得一位著名的教授曾说过：如果我象那些一帆风顺的学者们，我也会一事无成，因为院子里练不出千里马，花盆里栽不出万年松，不经风雨，在困难来时，就会夭折，楚霸王项羽就是经典的例子，百战一败成就了千古绝唱霸王别姬 。司马迁宫刑后写出穿越时空的巨著《史记》，曹雪芹在家族败落之后写出了千古绝唱《红楼梦》，失聪的贝多芬成了一代音乐宗师，只有三个手指能微动的高危病人霍金被喻为“当代爱因斯坦”，汉高祖刘邦百战皆败造就了四百年的大汉天下，唐三藏因八十一难而取得真经，诸佛因我不入地狱谁入地狱而普渡众生，耶稣因受难才有今天遍布世界的基督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请记住成功是“汗水、血泪、艰辛、磨难、失败、信念、顽强、坚韧、毅志、拼搏和自强不息、永不言败、永不放弃”的精神共同打造的精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-----</a:t>
            </a:r>
            <a:r>
              <a:rPr b="1" lang="zh-CN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广东佛山高明区一中  周兆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3408480"/>
            <a:ext cx="9210600" cy="13595040"/>
          </a:xfrm>
          <a:prstGeom prst="rect">
            <a:avLst/>
          </a:prstGeom>
          <a:solidFill>
            <a:srgbClr val="cc99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2008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将是决定许多人一生命运的一年，距离高考我们仅剩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个月的复习时间。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个月相对人的一生可谓短暂，可却是决定一生命运的关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辞旧迎新应是思考的时刻，是心灵与先贤、与时空对话的时刻，面对满天璀璨我们要修正自己的星座，迈出更坚实的步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让我们在新的一年，拼尽全力实现自己的既定目标，站在人生的高起点上举手摘星！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我祝福你们！更相信你们！！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 、、、、、、、、、、、、、、、、、、、、、、、、、、、、、、、、、、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 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、、、、、、、、、、、、、、、、、、、、、、、、、、、、、、、、、、、、、、、、、、、、、、、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6000">
    <p:blinds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在一个初春的早晨，我又回到母校，走到你们中间，带着阔别一年半的欣喜牵起你们的手，我感受到一份沉甸——农村长大的我，知道这是一亩特殊的“责任田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看到你们的笑脸，我想说：我爱你们！我要让微笑融进你们的春天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、、、、、、、、、、、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448920" cy="643068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转眼一轮春夏走过，我们迎来了秋天，可是这个秋天里没有我们的收获，因为我们奋斗的目标是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2008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年盛夏的果实，所以我们需要在金色的季节里继续耕耘、继续鏖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虽不惧怕冬日的严寒，但我很不愿送走这个秋天，我总感觉你们的知识不够系统、方法不够熟练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、、、、、、、、、、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solidFill>
            <a:srgbClr val="0000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终于，一场初雪彻底消去我对秋的留恋，看到你们对雪的无所畏惧，我便接受了这个冬天。毕竟，能勇敢而坚定地走过冬天才是北方人的性格，才能迎接北国特有的春天…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、、、、、、、、、、、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76320" y="0"/>
            <a:ext cx="9144000" cy="643068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面对万千同龄人的激烈竞争，走进教室的你虽无挑战，却是在应战 。繁忙而琐碎的复习让你们无心观日出、赏晚霞，无暇看流云、辨星斗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这一切让人心疼、心急又欣慰：因为你们需要因奋斗而无悔，需要因辛苦而美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在这里，谁最辛苦，谁最美丽！！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、、、、、、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740556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不知不觉间，我们又送走了一年，回首三百六十五个日子，有喜悦，也有伤感。虽然经历的日子不再重现，但我们有重任扛在双肩，我们有信念激荡着心田，我们会带着必胜的信心走入一个全新的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2008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、、、、、、、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838044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2008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年的钟声就要敲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新年的阳光就要打在你的脸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新年给人新的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我们会呼吸着新年的清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向远方呼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沐着晨风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许下心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、、、、、、、、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34440" y="7621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Arial"/>
                <a:ea typeface="华文新魏"/>
              </a:rPr>
              <a:t>新年寄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76320" y="2209680"/>
            <a:ext cx="9220320" cy="155628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下面是援引佛山一位忘年朋友的短文，也算远来之经吧，作为新年寄语送给你们，想必比我的说教会有更好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6000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28600" y="-763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861920"/>
            <a:ext cx="9144000" cy="2219400"/>
          </a:xfrm>
          <a:prstGeom prst="rect">
            <a:avLst/>
          </a:prstGeom>
          <a:solidFill>
            <a:srgbClr val="0000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4880" bIns="1648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一、信念是人生幸福的法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失败与痛苦、选择与放弃、机遇与挑战。遇事不惊、临危不惧，不因大喜大悲而改变信念，不为失败和挫折放弃理想。当万事如意之时，应保持那样谨慎。当着遇逆境之时，应象无事时那样镇静。请记住：信念是人生幸福的法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莫以一时成败论英雄，对于一时的成与败，幸运与厄运，客观上都是一个崭新开始。只要厄运打不垮、挫折拖不倒、痛苦忍得住、风雨经得起、信念终不改，希望之光就会驱散绝望之云。请记住：幸福就永远属于您，坚定不移的信念是成功的保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5:55Z</dcterms:modified>
  <cp:revision>56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